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18D0-98A0-4D2C-8D88-2EA3A4B36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finished using my sources and writing my paper. The last step is putting together my bibliography. I need to remember the principles of academic hones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nor Code makes it very clear that I must be careful to avoid plagiarizing. This can result in: read from screen. I must always use correct citations when I : read from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quick summary of when to c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y bibliography, I will use the correct citation format. There are quick guides to this on the library home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99E-A93E-42F8-8874-36269FFF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85C-CAEC-44C2-A8A7-D0DC05EA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820-4734-49A3-BF67-3B5EC31E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31C-45AA-4A48-8F49-E6FB6540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9D9-BE06-4392-BC58-EBFEBCA0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845-CDBE-4A54-ABCF-A6512607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E26-A803-4C75-AFD6-DFCF7C5E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B8A-E04E-49D3-A2B5-3BE96E8C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EB5-F182-439A-B5B2-E33F3CA4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2C6-6517-482D-AC37-77820CA7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48E-7805-44B5-9C00-7647EE93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5B1-3E11-45A2-AAF1-1C5B2D4B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5D01-5A6E-4D4D-B107-021B066ED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Academic Honesty and Avoiding Plagi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ay you did the work yourself, you really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rely on someone else’s work, you cit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use someone else’s words, you quote them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report research, you do so fairly and truth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Lispon, Charl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oing Honest Work in College: How to Prepare Citations, Avoid Plagiarism, and Achieve Real Academic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giarism is a VERY serious academic offense that can result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ing an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ing a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icial sa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plagiarizing, you should give credit whenever you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person's idea, opinion, or theor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facts, statistics, graphs, drawings--any pieces of information--that are not common knowled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ations of another person's actual spoken or written words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aphrase of another person's spoken or written wo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te It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Cit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wn original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of bibliography? I have one about my space we can sca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2T22:30:03Z</dcterms:created>
  <dc:creator>lknight</dc:creator>
  <dc:description/>
  <dc:language>en-US</dc:language>
  <cp:lastModifiedBy>lknight</cp:lastModifiedBy>
  <dcterms:modified xsi:type="dcterms:W3CDTF">2006-12-14T00:20:52Z</dcterms:modified>
  <cp:revision>8</cp:revision>
  <dc:subject/>
  <dc:title>Academic Honesty and Avoiding Plagiarism</dc:title>
</cp:coreProperties>
</file>